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3D3-7375-46D8-AA78-70332E79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ED0-64BE-4780-9AC2-98BA3F16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7E6B6-0961-4881-93D4-71E16A9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87587-8795-4624-92E6-74205FF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4D38-317C-4466-B1AA-0895923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AC8EF-9255-4561-A43F-A585160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65BBB-2901-4D0C-8FEC-3FD66B33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07701-9B7A-4937-B013-B731BBCF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F0871-83D5-4DEE-AAB9-373BBD2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72B6C-E7FD-4910-8FC4-65DF717A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92585-B9C7-4C4B-AF84-36B60452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79C-C6DD-437D-BE44-649B5B40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361-AD72-4830-81A3-F76D6932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7D0-4F9F-416D-8A1C-D35CD41B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729C-4A1E-4D60-8080-EE08C4A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5F0-A99F-46CB-A3E0-58168B35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4909-DAE5-4E68-A405-C3622ED8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53C8-9C69-411E-A770-054D32BA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3CB-A54E-4908-B436-F629AE6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B836-CFE9-4E12-944D-CDAE5A1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B06-42B9-4EE3-9C98-B7DB606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E3C7-1A13-46AF-855A-1D106B4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E02B-7A9F-477B-A4D2-BDA48A3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56E-7FC9-40FC-9763-B213823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1E3-15DB-43C4-BA47-31D61C74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411-DA1A-4499-8448-CF193F5C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DCFA-9C4B-4E8D-8E5B-F044A8B0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7E9E-DE2B-4AB2-A896-AC0AD2F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7F7B-DA25-42B9-878B-C754C8A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19D4-1ECE-4C4C-AF11-5EE8FFE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B3E6-3ED1-4963-BBAC-6BDA562A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F8F-BD4A-4E28-9F20-7AF0EA1B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4476-619D-4CB3-AD69-9FE9E2AF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8316-D545-451D-A937-A3027E4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445C-3A15-467A-A968-8E01409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2D6D-C9E0-4D7A-B373-5505BB3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25D1-42F1-4488-B2AB-A323CD05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6AA1-B5EE-4E2C-AF0A-1ACD49DF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0C50-024C-4B52-ABCA-2ACC2911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CAFB-C360-4341-A93A-1D31914F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2B55-9ED0-4D7D-9BC6-57144A6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5A4C-3F05-49F1-AFEB-3FCAAE5E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964-AF00-4AF5-97A5-6CCC504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F4C8-D0DF-4737-B60C-B941687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B29E-703C-4E19-8F26-E5A1B9B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C6AE-7DAE-472B-8A39-1AE261A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F058-E7B0-4DD5-A85A-C96A0E8F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2CB5-A85B-4C73-B253-7468E90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F39B-D540-4AF2-8EC0-3ACDDF0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8BAF-BB6A-41EC-AF8D-BBCAB15B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98B6-967F-47E7-8393-FCA97334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CA18-8297-477A-87D3-BED9FAE6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4A89-6AEF-49E3-A3A6-BF00AB8B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8A9-23B9-44F9-8D55-2EC6C55E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E29B-6D02-4FA1-A347-06F4CD5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2E54-5B29-468B-A7AB-D1E45CA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9342-3869-40F0-BC92-E85DD7F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4BAA-0D78-41AF-92B3-058002A3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9F29-A549-4A58-92A7-A0D68B2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FC79-F7A4-428D-B576-D6CFB0F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6DEE-E07B-4D27-9C88-0A5F9FC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6BB5-7824-4192-AE94-0521813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E5AD-6D54-45DE-B42C-8C9FD6F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5DAD-6B03-46F4-858B-9748A39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34D-F817-4F25-BD65-8777692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B24F-0985-42D7-8677-1134EAD2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C9E5-DD27-4D5A-855C-1BDA0FDA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FC13-EC74-487E-87FC-4B6A689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7A05-7266-4BB8-BD48-5D3908A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0C22-D465-400F-8B64-E2E9091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3239-DBE7-44DD-9536-16D84531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B586-C52F-4566-935F-E08D939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6432-C701-47B3-A6C5-62C1C7E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5091A-95C7-44C7-B9E3-C25A1E7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907B-FBF6-44C1-BFFA-B09B734F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CC2-9958-4264-AC89-1238E96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3065-11E5-4822-B8AF-C3CC3CF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E072D-3498-471D-BD16-E54AC95D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439E-A8A4-4AC2-9C72-6715486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7EF9-ED35-42E3-82C1-31BEF4C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F4C33-3107-4459-AF27-296B26E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526E-78ED-4CD7-BB7C-747890D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8C1E-6918-411C-B32E-14D5137F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A6DC-F793-4850-995D-5EE00AD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C8E0-9BEA-4573-83C9-F2FCC0C9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AEC9-BDE7-40D4-AB4A-0EA4621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EA7-2BC9-4F6B-9C0C-A9F4953F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B161F-724C-42FB-B68A-517A6AA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476C-F2AF-4A9B-8F2C-283FA1DE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6D216-33BE-45A7-B5ED-D4268F5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C25C-7E05-488B-9F75-5592453A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7B57-21BF-432C-A564-1ABC1A9E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F491-756B-4942-9D54-66575BEC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A1CF7-809E-430D-8CE6-1AAA97D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969C-9AB5-4F44-8A06-15582E9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4C19-EE21-472C-AE9B-EE7B40A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D41E-EE92-4814-BDAD-547673C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6C2-6CF7-49E3-B9F3-C4424C2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7246-BD03-43B3-B422-1F1B570C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50CC-49E3-48B5-9A1B-B5CE424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53D0-2D7E-4317-AE73-D892014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D369-F088-4FF7-9A1A-E3E06D1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3A60-1EB8-4545-AE69-EE810067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1DA0-1E3B-4F77-BDCC-1FA670A9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DD88-27AB-49E6-9E1C-86DB7A47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1D48-EE3B-440B-B2F0-0D739789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1DC1-B8B2-4E23-8687-BD4E0BC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AF8A-351D-4F75-BA81-C4BCBD7D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30B-C73F-48E3-9CE6-008F487DAB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ABD-9B82-4575-B6DC-BFEFA27CBD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8CD-8BA3-48F8-B6DD-79E270C638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266-6F3F-406F-9FB9-A88FE9F35A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1EA0-938B-4C38-BB04-144E78DAAC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CFB-8B4E-4BB9-BCDD-D1F5A4A8D0B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8A9F-7F3E-475B-BAE8-15FDE7AEF5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7356-539D-4534-82EB-F8F5BCC388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85A-2E79-40A6-99E4-AC62335DED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5" descr="Manifest Destiny Painting"/>
          <p:cNvPicPr/>
          <p:nvPr/>
        </p:nvPicPr>
        <p:blipFill>
          <a:blip r:embed="rId2"/>
          <a:stretch/>
        </p:blipFill>
        <p:spPr>
          <a:xfrm>
            <a:off x="533520" y="1133640"/>
            <a:ext cx="8001000" cy="572436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2" descr=""/>
          <p:cNvPicPr/>
          <p:nvPr/>
        </p:nvPicPr>
        <p:blipFill>
          <a:blip r:embed="rId3"/>
          <a:stretch/>
        </p:blipFill>
        <p:spPr>
          <a:xfrm>
            <a:off x="533520" y="0"/>
            <a:ext cx="7937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pular sovereignty for the Nebraska Terri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pular sovereignty could not apply unless Missouri Compromise of 1820 repealed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ansas-Nebraska Act became law in 1854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map of the Nebraska Territory 1854-1867"/>
          <p:cNvPicPr/>
          <p:nvPr/>
        </p:nvPicPr>
        <p:blipFill>
          <a:blip r:embed="rId4"/>
          <a:stretch/>
        </p:blipFill>
        <p:spPr>
          <a:xfrm>
            <a:off x="4495680" y="1676520"/>
            <a:ext cx="44197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en was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most popula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was the effect of the Kansas-Nebraska Act on new territories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slave states compromise"/>
          <p:cNvPicPr/>
          <p:nvPr/>
        </p:nvPicPr>
        <p:blipFill>
          <a:blip r:embed="rId3"/>
          <a:stretch/>
        </p:blipFill>
        <p:spPr>
          <a:xfrm>
            <a:off x="4648320" y="380880"/>
            <a:ext cx="4165560" cy="60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I.  Growing Tens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red Scott Ca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Judge ruling: Fifth Amendment – property protec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uling guaranteed slavery in non-slave stat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4" descr="Image:DredScott.jpg"/>
          <p:cNvPicPr/>
          <p:nvPr/>
        </p:nvPicPr>
        <p:blipFill>
          <a:blip r:embed="rId2"/>
          <a:stretch/>
        </p:blipFill>
        <p:spPr>
          <a:xfrm>
            <a:off x="4724280" y="1523880"/>
            <a:ext cx="3540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523800" y="1225440"/>
            <a:ext cx="8016840" cy="18417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7931160" cy="1139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’s the big deal if you enter the union as a free state or slave state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uling party more likely to pass laws that are in their interest; usually coincides with sectional interes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.K. So, who passes laws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 what was the main issue of the time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2"/>
          <a:stretch/>
        </p:blipFill>
        <p:spPr>
          <a:xfrm>
            <a:off x="414360" y="152280"/>
            <a:ext cx="7967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72396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.  Louisiana Purchase/Fra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.  Missouri Compromise of 182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Missouri(slave)/Maine (free), 36’30 N Latitu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USA_Territorial_Growth_1820"/>
          <p:cNvPicPr/>
          <p:nvPr/>
        </p:nvPicPr>
        <p:blipFill>
          <a:blip r:embed="rId3"/>
          <a:stretch/>
        </p:blipFill>
        <p:spPr>
          <a:xfrm>
            <a:off x="76320" y="2816280"/>
            <a:ext cx="90676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ousands move to Californ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ply for statehood; need strong gov’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currently have 15 free and 15 slave states!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2"/>
          <a:stretch/>
        </p:blipFill>
        <p:spPr>
          <a:xfrm>
            <a:off x="533520" y="0"/>
            <a:ext cx="793728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 = free st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t and N.M. =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– people of the state decide for themselves to be or not to be a slave st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ricter fugitive slave laws = $1000/6 mo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37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1" descr="USA_Territorial_Growth_1820"/>
          <p:cNvPicPr/>
          <p:nvPr/>
        </p:nvPicPr>
        <p:blipFill>
          <a:blip r:embed="rId3"/>
          <a:stretch/>
        </p:blipFill>
        <p:spPr>
          <a:xfrm>
            <a:off x="228600" y="2984400"/>
            <a:ext cx="8686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9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riet “Moses” Tubma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an away when owner di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lped over 300 slaves to freed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3"/>
          <a:stretch/>
        </p:blipFill>
        <p:spPr>
          <a:xfrm>
            <a:off x="5262480" y="1600200"/>
            <a:ext cx="311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3" descr="scan0003"/>
          <p:cNvPicPr/>
          <p:nvPr/>
        </p:nvPicPr>
        <p:blipFill>
          <a:blip r:embed="rId2"/>
          <a:stretch/>
        </p:blipFill>
        <p:spPr>
          <a:xfrm>
            <a:off x="990720" y="434880"/>
            <a:ext cx="70866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uthern agriculture economy 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pended on slav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vention of the cotton gin =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crease in demand of slaves =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crease in African population in Southern St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tton and Tobacco cash cro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Cotton-gin[1] (3)"/>
          <p:cNvPicPr/>
          <p:nvPr/>
        </p:nvPicPr>
        <p:blipFill>
          <a:blip r:embed="rId3"/>
          <a:stretch/>
        </p:blipFill>
        <p:spPr>
          <a:xfrm>
            <a:off x="4572000" y="198108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8-31T13:31:19Z</dcterms:modified>
  <cp:revision>32</cp:revision>
  <dc:subject/>
  <dc:title>PowerPoint Presentation</dc:title>
</cp:coreProperties>
</file>